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E7CD-6422-43A6-878A-2F2BE534FA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EF75-CC69-431B-A97C-7FCA6F498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F4CD-C813-44D8-B482-23FBFE203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196-E835-4DD1-8DA7-2B0DF55B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A15-86AE-4A8D-A0C7-B6D1A9AB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85E-A267-4293-9AC4-6FB31854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555-2BB1-4DB9-8A73-1F4869F4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1E3-CAAB-4522-A878-8B4612B4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2D9-EF22-4C9E-813C-025451DA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733-A6B7-412D-A270-FE63F87B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849-4E50-4A82-A9C6-F9DC1F63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473-154B-4DA6-975A-D537452E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838-47B4-455C-9AAC-40C77C4A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52E-0D94-4E66-8DB2-F731FD5B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0B1-CBED-4E2C-AA9A-88F16484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2409-81D4-488A-BBF8-0DADC3295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1219320" y="2133720"/>
            <a:ext cx="7543800" cy="392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51" name="Picture 13" descr="Ы"/>
            <p:cNvPicPr/>
            <p:nvPr/>
          </p:nvPicPr>
          <p:blipFill>
            <a:blip r:embed="rId2"/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WordArt 14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53" name="Picture 13" descr=""/>
          <p:cNvPicPr/>
          <p:nvPr/>
        </p:nvPicPr>
        <p:blipFill>
          <a:blip r:embed="rId3"/>
          <a:srcRect l="0" t="26802" r="0" b="5360"/>
          <a:stretch/>
        </p:blipFill>
        <p:spPr>
          <a:xfrm>
            <a:off x="0" y="6132600"/>
            <a:ext cx="9144000" cy="753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8440" y="23619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   государственной (итоговой) аттестации выпускников 9 классов                    в новой форм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4267080" y="4578480"/>
            <a:ext cx="4648320" cy="17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.Х. Сала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дущий консультант отдела мониторинга качества образования и аттестации обучающихся МОиН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DE5E-BA2D-4938-B32C-A8D8CDA99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26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501480" y="1666800"/>
            <a:ext cx="79632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ля участия в государственной (итоговой) аттестации в новой форме обучающие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арта 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текущего года подают в образовательное учреждение, в котором они осваивали основные общеобразовательные программы основного общего образования,  заявление с указанием перечня предм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8819-C186-41BA-A02F-A4700F7C7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34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36" name="Text Box 7"/>
          <p:cNvSpPr/>
          <p:nvPr/>
        </p:nvSpPr>
        <p:spPr>
          <a:xfrm>
            <a:off x="419040" y="1828800"/>
            <a:ext cx="83059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ение об участии в государственной (итоговой) аттестации обучающихся в новой форме выпускников IХ классов, получивших основное общее образование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вечерней форме, 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инимают муниципальные органы управления образов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C287-8C2C-4AEB-B0FC-3B1E9A751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2"/>
          <p:cNvPicPr/>
          <p:nvPr/>
        </p:nvPicPr>
        <p:blipFill>
          <a:blip r:embed="rId2"/>
          <a:stretch/>
        </p:blipFill>
        <p:spPr>
          <a:xfrm>
            <a:off x="-415800" y="-179280"/>
            <a:ext cx="9677160" cy="7086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173160" y="2239920"/>
            <a:ext cx="853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роки проведения экзаменов  государственной (итоговой) аттестации выпускников IX классов                           в новой форме устанавливаются Министерством образования и науки Российской Фед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4E47-BC5A-415F-8CAC-932D5D81C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2"/>
          <p:cNvPicPr/>
          <p:nvPr/>
        </p:nvPicPr>
        <p:blipFill>
          <a:blip r:embed="rId2"/>
          <a:stretch/>
        </p:blipFill>
        <p:spPr>
          <a:xfrm>
            <a:off x="-380880" y="-228600"/>
            <a:ext cx="9677160" cy="7086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04920" y="152388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IX классов общеобразовательных учреждений, получившие на государственной (итоговой) аттестации в новой форме </a:t>
            </a:r>
            <a:r>
              <a:rPr b="0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не более двух неудовлетворительных отметок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, допуска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повторной государственной (итоговой) аттестации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по этим предметам, которая проводится в новой форме в ОУ-ППЭ путем создания </a:t>
            </a:r>
            <a:r>
              <a:rPr b="0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муниципальных экзаменационных коми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DBA6-CA59-46CA-9540-8919488A1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52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54" name="Text Box 7"/>
          <p:cNvSpPr/>
          <p:nvPr/>
        </p:nvSpPr>
        <p:spPr>
          <a:xfrm>
            <a:off x="533520" y="873000"/>
            <a:ext cx="792468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хнические средства и оборудование для проведения                       ГИА-9 в нов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 муниципальном уровне необходимо обеспечить пунктов проведения экзаменов техническими средствами и оборудовани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русскому языку – звуковоспроизводящей аппаратур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иностранным языкам (английский, французский, немецкий, испанский) – звуковоспроизводящей (для воспроизведения аудиотекста) и звукозаписывающей аппаратурой (диктофоны, батарейки), компакт-дисками (CD-</a:t>
            </a:r>
            <a:r>
              <a:rPr b="0" lang="en-US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) для записи ответов экзаменуемых в разделе «Говорение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физике – экспериментальным оборудова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 информатике и ИКТ – персональными компьютерами с установленным соответствующим  программным обеспеч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B14B-E047-463E-8FBA-1FD39CB75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60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62" name="Text Box 7"/>
          <p:cNvSpPr/>
          <p:nvPr/>
        </p:nvSpPr>
        <p:spPr>
          <a:xfrm>
            <a:off x="471600" y="1371600"/>
            <a:ext cx="8251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ремя проведения экзаменов, на  которые отводилось 4 часа, в соответствии с требованиями СанПиН сокращено на 5 минут (с 240 до 235 минут)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ществознание, история, информатика и ИКТ, литература, иностранные языки, химия – </a:t>
            </a:r>
            <a:r>
              <a:rPr b="1" i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ий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усский язык: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о задание С2; исключено альтернативное задание (С2.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Биология: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часть 2 (В) включено практико-ориентированное задание на соотнесение морфологических признаков организма или его отдельных органов с предложенными моделями по заданному алгорит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изика: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обавлено задание 8 с выбором ответа – на тепловые явления, а также задание 23 с кратким ответом – на понимание и анализ экспериментальных данных, представленных в виде таблицы, графика или рисунка (схемы). Общее количество заданий увеличено до 27, максимальный первичный балл за работу вырос до 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География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общее количество заданий сокращено с 31 до 30, а максимальный первичный балл за выполнение всех заданий работы – с 33 до 3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1523880" y="495360"/>
            <a:ext cx="70772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 в КИМ ГИА в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4A02-B858-4759-8172-BF8F6D0BE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69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71" name="Text Box 7"/>
          <p:cNvSpPr/>
          <p:nvPr/>
        </p:nvSpPr>
        <p:spPr>
          <a:xfrm>
            <a:off x="380880" y="380880"/>
            <a:ext cx="815364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введения в КИМ ГИА 201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озможность раздельного оценивания алгебраической и геометрической подготовки учащихся (выставление отметок по курсу алгебры и курсу геометрии), модульная структура - «Алгебра», «Геометрия», «Реальная матема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овые ФГОС – предмет «Математика. Алгебра. Геометрия. Информа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- полноценная реализация требований ФГОС в части использования приобретенных знаний и умений в практической деятельности и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6267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Учащимся разрешается использовать справочные материалы, выдаваемые вместе с вариантом. Разрешается использовать линейку. Калькуляторы на экзамене не используются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D571-B1DB-4BA1-AD12-D1636BC4C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77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79" name="Text Box 7"/>
          <p:cNvSpPr/>
          <p:nvPr/>
        </p:nvSpPr>
        <p:spPr>
          <a:xfrm>
            <a:off x="358920" y="1143000"/>
            <a:ext cx="83055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 освоении выпускником  федерального компонента государственного образовательного стандарта в предметной област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тематика»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идетельствует преодоление им минимального порогового результата выполнения экзаменацион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навливается следующий минимальный критерий: 8 баллов, набранные в сумме за выполнение всех трех модулей, из них – не менее 3-х баллов по модулю «Алгебра», 2-х баллов по модулю «Геометрия» и 2-х баллов по модулю «Реальная математ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одоление этого минимального результата дает выпускнику право на получение, в соответствии с учебным планом образовательного учреждения, </a:t>
            </a:r>
            <a:r>
              <a:rPr b="0" lang="ru-RU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итоговой отметки по математике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на основе годовой и экзаменационных отметок по пятибалльной шкале) </a:t>
            </a:r>
            <a:r>
              <a:rPr b="0" lang="ru-RU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или по алгебре и геометрии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на основе годовых отметок, а также, в случае получения положительных оценок, экзаменационных отметок по пятибалльной шкале по соответствующим раздела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б +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б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+ 3б =  8б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ценка «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б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+ 3б + 3б = 8б      Оценка «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б + 2б + 1б = 8б      Оценка «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9CED-C066-4BD2-8383-139D4D36C4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85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87" name="Text Box 7"/>
          <p:cNvSpPr/>
          <p:nvPr/>
        </p:nvSpPr>
        <p:spPr>
          <a:xfrm>
            <a:off x="396720" y="1447920"/>
            <a:ext cx="83059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2013 году апробация государственной (итоговой) аттестации выпускников 9 классов в новой форме проводится на основании Закона РФ «Об образовании» от 10.07.1992 г. № 3266-1 (с изменениями и дополнениями от 18.07.2011 г.) и в соответствии с Положением о государственной (итоговой) аттестации выпускников IX, XI (XII) классов общеобразовательных учреждений Российской Федерации, утвержденным приказом Министерства образования РФ от 03.12.99 №1075,                         (в ред. приказов Министерства образования РФ от 16.03.2001 №1022, от 25.06.2002 №2398, от 21.01.2003 №135, от 08.12.2004 №132, от 28.11.2008 №3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CA95-9927-474A-A785-F089087DD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2"/>
          <p:cNvPicPr/>
          <p:nvPr/>
        </p:nvPicPr>
        <p:blipFill>
          <a:blip r:embed="rId1"/>
          <a:stretch/>
        </p:blipFill>
        <p:spPr>
          <a:xfrm>
            <a:off x="-4680" y="-9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92" name="Picture 5" descr="Ы"/>
            <p:cNvPicPr/>
            <p:nvPr/>
          </p:nvPicPr>
          <p:blipFill>
            <a:blip r:embed="rId2"/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4" name="Text Box 9"/>
          <p:cNvSpPr/>
          <p:nvPr/>
        </p:nvSpPr>
        <p:spPr>
          <a:xfrm>
            <a:off x="0" y="1565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"/>
          <p:cNvSpPr/>
          <p:nvPr/>
        </p:nvSpPr>
        <p:spPr>
          <a:xfrm>
            <a:off x="685800" y="1662120"/>
            <a:ext cx="80773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нтактные телефо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92-49-0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акс 292-24-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Milyausha.Salahova@tata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9EA5-7614-4314-BD42-7A1ACFF58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61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63" name="Text Box 7"/>
          <p:cNvSpPr/>
          <p:nvPr/>
        </p:nvSpPr>
        <p:spPr>
          <a:xfrm>
            <a:off x="301680" y="322200"/>
            <a:ext cx="8610480" cy="60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о совершенствованию преподавания математики в основной школе с целью  качественной подготовки к ГИА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 Систематически включать в тематические контрольные и самостоятельные работы задания в тестовой форме, соблюдая временной ре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Обратить внимание на повышение уровня вычислительных навыков учащихся (эффективно организовать устную работу на урока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Усилить практическую направленность обучения, включая соответствующие задания, графики реальных зависимостей, текстовые задачи с построением математических моделей реальных ситуаций; выделить «проблемные» темы в каждом конкретном классе и работать над ликвидацией пробелов в знаниях и умениях обучающихся по этим тем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4. В ходе обучения геометрии обратить самое серьезное внимание на обеспечение усвоения всеми учащимися минимума содержания на базовом уровне. Именно это является непременным условием для усвоения геометрии на любом уро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5. Уделять большее внимание решению задач с вариативными формулировками, что даст возможность учащимся отделять существенные признаки от несущественных, которые мешают при поиске решения задачи; работе с условием задачи; выявлению предмета и элементов задачи, соотношений между элементами; рефлексии после получени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6. Осуществлять подготовку к экзамену не в ходе массового «нарешивания» вариантов – аналогов экзаменационных работ, а в ходе всего учебного процесса, формируя при этом у обучающихся общие учебные действия, способствующие более эффективному усвоению изучаемых вопро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7. Определить наиболее эффективной стратегией работы каждого педагога регулярное прохождение курса математики, совмещенное с периодической диагностикой проблемных зон учащихся и устранением выявленных недостатков по индивидуальной траек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A55F-876F-48A7-A421-4D07F4083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69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71" name="Text Box 7"/>
          <p:cNvSpPr/>
          <p:nvPr/>
        </p:nvSpPr>
        <p:spPr>
          <a:xfrm>
            <a:off x="380880" y="482760"/>
            <a:ext cx="822960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ации по подготовке выпускников 9 классов                  к ГИА-9  по русск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обое внимание следует обратить на усвоение теории в области синтаксиса, связанной с понятием предложения как основной синтаксической единицы, умением анализировать структуру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.  Очень остро стоит проблема культуры речи. Большое количество речевых и грамматических ошибок в письменной и устной речи учащихся, неумение выявить чужую ошибку в речи является свидетельством недостаточного внимания к этой проблеме со стороны учителей-предметников. Не только поверхностное знакомство с понятием нормированности на том или ином языковом уровне (фонетическом, лексическом, морфологическом и др.), но и регулярные практические задания на уроках, поможет повысить общий уровень речевой культуры выпуск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При выполнении задания типа С аргументация собственной точки зрения очень часто сводится к воссозданию жизненной ситуации, а не к обращению к литературному источнику. Вероятно, задача учителя сводится к тому, чтобы мотивировать учащихся к привлечению литературных источников, определить круг тем и проблем, которые поднимает тот или иной автор в своих произвед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441A-0CC2-4DA4-B014-A607C22E9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77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79" name="Text Box 7"/>
          <p:cNvSpPr/>
          <p:nvPr/>
        </p:nvSpPr>
        <p:spPr>
          <a:xfrm>
            <a:off x="266760" y="282600"/>
            <a:ext cx="861048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ичные ошибки  ГИА - 9 по предметам по выб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ностранные языки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вести диалог и реагировать на реплики собеседника – преподавател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итература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самостоятельно выбирать позицию сопоставления,  давать развёрнутый отв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Географ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работать с картой мест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изика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достаточные знания  физических законов, неумение объяснять физические явления и закономер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Хим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разобраться в качественных реакциях на некоторые ионы и простые вещества, что влечёт за собой неумение описывать химический эксперимен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стор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достаточное усвоение фактического материала, терминов, дат. Смешение понятий, явлений, процессов. Слабая работа с источником (текстом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ществознание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анализировать теоретическое осмысление текст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Биология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: неумение применять знание на практике в новой ситуации, неумение обобщать. Недостаточно навыков использования табличного материала и делать по нему выво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нформатика и ИКТ: </a:t>
            </a:r>
            <a:r>
              <a:rPr b="0" lang="ru-RU" sz="19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недостаточно навыков при выполнении алгоритмически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A032-5F76-4B49-9970-234388EEA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"/>
          <p:cNvPicPr/>
          <p:nvPr/>
        </p:nvPicPr>
        <p:blipFill>
          <a:blip r:embed="rId2"/>
          <a:stretch/>
        </p:blipFill>
        <p:spPr>
          <a:xfrm>
            <a:off x="7920" y="0"/>
            <a:ext cx="9144000" cy="689292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85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87" name="Text Box 7"/>
          <p:cNvSpPr/>
          <p:nvPr/>
        </p:nvSpPr>
        <p:spPr>
          <a:xfrm>
            <a:off x="380880" y="182880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соответствии с письмом Министерства образования и науки Российской Федерации от 18.10.2012г. № 08-488 в 2013 году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проб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оведения государственной (итоговой) аттестации обучающихся, освоивших образовательные программы основного общего образования, с использованием механизмов независимой оценки знаний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ается по 14 общеобразовательным предметам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усскому языку, математике, биологии, физике, химии, географии, истории, обществознанию, иностранному языку (английский, французский, немецкий, испанский), информатике и ИКТ, лит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2014 года </a:t>
            </a: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государственная (итоговая) аттестация выпускников                      9 классов в новой форме проводит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штатном режим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1981080" y="3430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государственной (итоговой) аттестации выпускников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лассов в нов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BD48-3273-4B2A-8E99-5CB7770D2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94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96" name="Text Box 7"/>
          <p:cNvSpPr/>
          <p:nvPr/>
        </p:nvSpPr>
        <p:spPr>
          <a:xfrm>
            <a:off x="304920" y="669960"/>
            <a:ext cx="86104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вовые основы проведения в 2013 году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щеобразовате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использованием механизмов независимой оценки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Закон Российской Федерации «Об образовании» от 10.07.1992 № 3266-1(с изменениями и дополнения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оложение о государственной (итоговой) аттестации выпускников IX, XI (XII) классов общеобразовательных учреждений Российской Федерации, утвержденный приказом Министерства образования РФ от 03.12.99 №1075, (в ред. приказов Министерства образования РФ от 16.03.2001 №1022, от 25.06.2002 №2398, от 21.01.2003 №135, от 08.12.2004 №132, от 28.11.2008 №36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исьмо Министерства образования и науки Российской Федерации от 18.10.2012г. № 08-4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4E05-2661-427D-A2A2-E5193BFAF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02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04" name="Text Box 7"/>
          <p:cNvSpPr/>
          <p:nvPr/>
        </p:nvSpPr>
        <p:spPr>
          <a:xfrm>
            <a:off x="380880" y="380880"/>
            <a:ext cx="83059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авовые основы проведения в 2013 году 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щеобразовате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использованием механизмов независимой оценки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 уровне региона (проекты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   распоряжение Кабинета министров Республики Татарстан (январь 2013г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рядок организации и проведения в 2013 году государственной (итоговой) аттестации обучающихся, освоивших основные общеобразовательные программы основного общего образования, с использованием механизмов независимой оценки знаний путем создания государственной экзаменационной комиссии Республики Татарстан, утвержденный приказом Министерства образования и науки республики Татарстан (январь 2013г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ганизационно-территориальная схема проведения государственной (итоговой) аттестации обучающихся, освоивших основные образовательные программы основного общего образования с использованием независимых механизмов оценки знаний путем создания государственной экзаменационной комиссии Республики Татарстан  в 2013 году, утвержденная приказом Министерства образования и науки республики Татарстан (февраль 2013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6932-7369-45AE-89BE-144B74FA91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10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504720" y="762120"/>
            <a:ext cx="80773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лассов в нов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IХ классов общеобразовательных учреждений Республики Татарстан в 2012-2013 учебном году в рамках государственной (итоговой) аттестации сдают следующие выпускные экзамены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язательные экзамены по русскому языку и математи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 экзамена по выбору выпускника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 числа предметов, изучавшихся в IХ класс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а также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ональный экзамен по предмету «Татарский язык»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ля выпускников, изучавших татарский язык как родной или государств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Экзамен по предмету «Татарский язык» проводится  в новой и традиционной формах. </a:t>
            </a:r>
            <a:r>
              <a:rPr b="0" lang="tt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экзамена выбирается выпускником самостояте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38D7-510B-464E-81B2-1E050DA3D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image002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04920" y="304920"/>
            <a:ext cx="990360" cy="58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4"/>
          <p:cNvGrpSpPr/>
          <p:nvPr/>
        </p:nvGrpSpPr>
        <p:grpSpPr>
          <a:xfrm>
            <a:off x="228600" y="304920"/>
            <a:ext cx="2133720" cy="1328760"/>
            <a:chOff x="228600" y="304920"/>
            <a:chExt cx="2133720" cy="1328760"/>
          </a:xfrm>
        </p:grpSpPr>
        <p:pic>
          <p:nvPicPr>
            <p:cNvPr id="118" name="Picture 5" descr="Ы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228600" y="304920"/>
              <a:ext cx="21337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WordArt 6"/>
            <p:cNvSpPr txBox="1"/>
            <p:nvPr/>
          </p:nvSpPr>
          <p:spPr>
            <a:xfrm>
              <a:off x="228600" y="380880"/>
              <a:ext cx="6094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0033cc"/>
                  </a:solidFill>
                  <a:latin typeface="Times New Roman"/>
                </a:rPr>
                <a:t>ГИА</a:t>
              </a:r>
              <a:endPara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33cc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20" name="Text Box 7"/>
          <p:cNvSpPr/>
          <p:nvPr/>
        </p:nvSpPr>
        <p:spPr>
          <a:xfrm>
            <a:off x="285840" y="996840"/>
            <a:ext cx="861048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ведения в 2013 году государственной (итоговой) аттестации выпускнико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X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лассов в нов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</a:t>
            </a:r>
            <a:r>
              <a:rPr b="0" lang="en-US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IX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класса общеобразовательного учреждения, желающие продолжить обучение в профильных классах </a:t>
            </a:r>
            <a:r>
              <a:rPr b="0" lang="en-US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III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ступени общего образования, сдают два экзамена по предметам, соответствующим данному профилю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соответствии с действующим законодательством </a:t>
            </a:r>
            <a:r>
              <a:rPr b="0" lang="ru-RU" sz="1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профильные предметы для формирования профильных классов определяются общеобразовательным учреждением самостоя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ыпускники 9 классов, желающие продолжить обучение в учреждениях начального и среднего профессионального образования (если кроме обязательных предметов, не нужен какой либо другой предмет для поступления) </a:t>
            </a:r>
            <a:r>
              <a:rPr b="0" lang="ru-RU" sz="18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имеют право в качестве двух  предметов по выбору выбрать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едметы «Физическая культура», «Искусство», «ОБЖ», «Родная (татарская, чувашская, марийская, удмуртская) литература», изучавшиеся  в 9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liya</dc:creator>
  <dc:description/>
  <dc:language>en-US</dc:language>
  <cp:lastModifiedBy>Зиганшина</cp:lastModifiedBy>
  <cp:lastPrinted>2012-11-21T15:24:08Z</cp:lastPrinted>
  <dcterms:modified xsi:type="dcterms:W3CDTF">2012-11-22T09:38:05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